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8CC-3BB8-48EB-9743-81CE077F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F6F-5CC9-4701-A552-C7DE2575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68D-335E-4F13-A00B-42DB1BBE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F60-D895-4D20-B52C-5860C04B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C621-E9F5-4C2A-96A3-71188DF5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B2FD-7D71-4517-B8F4-C07927D5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2FF9-A93F-4FE6-AF5F-4DE3B245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7000-DBDA-41AE-8488-94C8C8E1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6B91-7292-43CE-89C7-61AE0F8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22AF-EBB7-4EED-866F-8BB50588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3A15-387F-47A3-9EB7-8760FA5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B5D-A97F-422D-996C-7315A6E7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D9B2-7A49-4937-ADE6-C4CEDE7E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5626-8543-4771-B4E7-DF694387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FF51-AD37-4247-939E-59FE0AC1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42CC-1387-4BF9-B1F6-01018ECF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5FDD-F5DE-4574-804B-45AE67F0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1B2-D16F-4204-8B75-73386487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DB4-5170-48A1-8713-9A9E6A39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ED3-E1A8-4A39-83FA-31FA1DE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AC9-9CFD-43E3-B111-C122D6A9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1DB-AA2B-4A17-98B1-FC00177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F1B-7F56-41B3-89AD-EC5930DF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902-5A57-449B-9721-E20F0392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8DCC-D6A4-4619-92C1-00DE95ADCDA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A2A3-7C83-4BF8-AACE-CD58E4919E0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2206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8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22856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ponse and Recovery Planning by State Author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ponse and Recovery Planning by Local Author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2249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281952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Response and Recovery Planning by State Author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te Assistance to Local Author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Uniformity Among States on Homeland Security Assign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MA and Federal Budget Suppo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224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Response and Recovery Planning by Local Authoriti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mmediate Police, Fire, and Medical Emergency Interven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ining for Deployment to Emergency Ev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cal Emergency Operations Pl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cal Responders: Very large Segment of the Homeland Security Enterpri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0" y="378000"/>
            <a:ext cx="9247320" cy="2462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0" y="384120"/>
            <a:ext cx="9247320" cy="2206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298440" y="304920"/>
            <a:ext cx="846756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01680" y="2209680"/>
            <a:ext cx="8540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Critical Outcomes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ad00"/>
                </a:solidFill>
                <a:latin typeface="Book Antiqua"/>
              </a:rPr>
              <a:t>Response and Recovery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2225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22856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deral National Planning Frameworks and the National Preparedness Go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Presidential Declar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276720" y="640080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2500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281952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Federal National Planning Frameworks and the National Preparedness Go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ssion Areas and National Planning Frame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hieving the National Preparedness Go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re Capabil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0" y="384120"/>
            <a:ext cx="9193320" cy="2206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2286000"/>
            <a:ext cx="906768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2500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819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Presidential Declar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idential Major Disaster Declar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mergency Declar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bert T. Stafford Disaster Relief and Emergency Assistance A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idential Declarations: Standard Procedur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idential Declarations: Exceptional Procedur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22856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ackground: The Progression of Federal Response Plan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Implementing the National Response Framewo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281952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Background: The Progression of Federal Response Plan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993 Federal Response P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klahoma City Bombing and September 11 Att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erseded in 200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81952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Implementing the National Response Framewo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al Response Framework: The Core Capabil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al Response Framework: The Emergency Support Func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al Response Framework: Unified Coordination and the Joint Field Off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7-01T00:11:04Z</dcterms:modified>
  <cp:revision>134</cp:revision>
  <dc:subject/>
  <dc:title>Slide 1</dc:title>
</cp:coreProperties>
</file>